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085-DFE8-4928-BBFA-4C262051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EEDC-8A0B-490D-AE53-B763C64E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92BD-6AC7-4B15-A2BF-EBFF36DE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D693-200E-42A7-8007-3E11DAA6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83E-986A-482D-BFC3-2250E2E3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9A33-F79F-4CD5-8449-1CF41605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3E06-AA0A-459A-981F-7DCECE6C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EBF2-3D78-4A56-9A6C-0E33BC3F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7560" y="-36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1BF-33D2-4C67-A14E-DA4140E8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8616-CD0B-41C3-A850-ECB04B7A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4E93-2934-4DF9-84E3-47E46140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D9C-7338-42E3-9B7B-2A89B069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F3E6-6C5B-4D9F-8307-A045ABF3B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1143000"/>
            <a:ext cx="8686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3"/>
          <p:cNvSpPr/>
          <p:nvPr/>
        </p:nvSpPr>
        <p:spPr>
          <a:xfrm rot="18900000">
            <a:off x="6248880" y="51051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" descr="DOC Color Use"/>
          <p:cNvPicPr/>
          <p:nvPr/>
        </p:nvPicPr>
        <p:blipFill>
          <a:blip r:embed="rId2"/>
          <a:stretch/>
        </p:blipFill>
        <p:spPr>
          <a:xfrm>
            <a:off x="101520" y="88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8" descr="noaa_seal"/>
          <p:cNvPicPr/>
          <p:nvPr/>
        </p:nvPicPr>
        <p:blipFill>
          <a:blip r:embed="rId3"/>
          <a:stretch/>
        </p:blipFill>
        <p:spPr>
          <a:xfrm>
            <a:off x="8153280" y="41400"/>
            <a:ext cx="914400" cy="9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6360" y="1819440"/>
            <a:ext cx="7791480" cy="17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arth Science Information Partners (ESIP) Town H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5105160"/>
            <a:ext cx="6400800" cy="9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uty Assistant Administrator for Satellite and Informatio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16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28E4-6140-4949-A7C5-B82F29760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47400" y="123480"/>
            <a:ext cx="6467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87640" y="1753200"/>
            <a:ext cx="8720280" cy="3887280"/>
            <a:chOff x="287640" y="1753200"/>
            <a:chExt cx="8720280" cy="3887280"/>
          </a:xfrm>
        </p:grpSpPr>
        <p:sp>
          <p:nvSpPr>
            <p:cNvPr id="50" name="_s19481"/>
            <p:cNvSpPr/>
            <p:nvPr/>
          </p:nvSpPr>
          <p:spPr>
            <a:xfrm>
              <a:off x="3960720" y="1753200"/>
              <a:ext cx="4118040" cy="388728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9482"/>
            <p:cNvSpPr/>
            <p:nvPr/>
          </p:nvSpPr>
          <p:spPr>
            <a:xfrm>
              <a:off x="7419960" y="3275280"/>
              <a:ext cx="1587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9483"/>
            <p:cNvSpPr/>
            <p:nvPr/>
          </p:nvSpPr>
          <p:spPr>
            <a:xfrm>
              <a:off x="1294920" y="1753200"/>
              <a:ext cx="3960720" cy="388440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9484"/>
            <p:cNvSpPr/>
            <p:nvPr/>
          </p:nvSpPr>
          <p:spPr>
            <a:xfrm>
              <a:off x="287640" y="3275280"/>
              <a:ext cx="1587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5486400" y="2895480"/>
            <a:ext cx="190512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stal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ster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 Forec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3200400"/>
            <a:ext cx="20574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ellite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ellite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9720" y="220968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11520" y="2209680"/>
            <a:ext cx="16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P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atus of NOAA – ESIP Cooper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USGEO near term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NESDIS Data Users 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SDIS Products and Services Inventor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metadata standards and profiles and long term data arch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cy Challen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ing sensors deleted off of NPOESS and GOES-R and responding to the NRC Decadal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AA Strategic Satellit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OS Constel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AA Future needs in Data Managemen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imat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6:27:36Z</dcterms:created>
  <dc:creator>toni parham</dc:creator>
  <dc:description/>
  <dc:language>en-US</dc:language>
  <cp:lastModifiedBy> </cp:lastModifiedBy>
  <dcterms:modified xsi:type="dcterms:W3CDTF">2008-07-17T11:30:39Z</dcterms:modified>
  <cp:revision>12</cp:revision>
  <dc:subject/>
  <dc:title>Report of the Assistant Administrator</dc:title>
</cp:coreProperties>
</file>